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C46-60EF-4C89-9AE8-8D9D3D4E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BF3-17FE-4788-B83A-E91A77D2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6BC-E1A6-4003-B474-5C369A9C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4498-61A5-4353-81C6-D1336697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ED4-60F3-4428-AF3A-9E8A4CFE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212A-3082-46D6-908B-CBD26FB2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F054-712B-4759-A462-43C9B89A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EB63-6214-4329-97F8-C659209A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EBB6-5245-42DA-A634-54DA5327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F92-B1A0-4786-8DE3-FCFCF6BC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787-912B-4170-BE79-65D68326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A0B1-0861-4AF1-BD49-391D66B5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01FB-B8F7-4289-A12F-F6EFB93AF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csv.kintera.org/wfa2006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xilinx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nbc11.com/index.html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alkforaids.org/" TargetMode="External"/><Relationship Id="rId2" Type="http://schemas.openxmlformats.org/officeDocument/2006/relationships/hyperlink" Target="http://www.walkforaids.org/" TargetMode="External"/><Relationship Id="rId3" Type="http://schemas.openxmlformats.org/officeDocument/2006/relationships/hyperlink" Target="http://www.walkforaids.org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Walk in San Jose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520" y="44193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You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CLICK HERE TO REGISTER NOW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288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6835680" cy="71056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76560" y="190476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Xilinx Team Page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9/27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933560"/>
            <a:ext cx="8058240" cy="8867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19920" y="403848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mail Confi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0 Minimum Contributio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orry about this. The goal was to raise fund and increase awareness of AIDS. At least you achieved the latter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km Walk to raise fund ($$$) for local HIV/AIDS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: Increase community awareness of HIV/A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fundraising event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ta Clara County (= Most of Silicon Vall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ertino, San Jose, Sunnyvale, Santa Clara, Mountain View, Palo Alto, Los Altos, Milpitas, Saratoga, Gilroy, Campbell, Los Gatos, Morgan Hill, Los Altos Hills, Monte Se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Provid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S Coalition Silicon Vall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000+ Walkers from all over the Silicon Valley and the Bay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59436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nd W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day, October 15th, 200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am – 11am (or 8am to 12p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y Meadow, San Jose, CA. Near the Aids Memorial Gro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team2tp.JPG - 12544 Bytes"/>
          <p:cNvPicPr/>
          <p:nvPr/>
        </p:nvPicPr>
        <p:blipFill>
          <a:blip r:embed="rId1"/>
          <a:stretch/>
        </p:blipFill>
        <p:spPr>
          <a:xfrm>
            <a:off x="990720" y="40384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vol1.JPG - 95935 Bytes"/>
          <p:cNvPicPr/>
          <p:nvPr/>
        </p:nvPicPr>
        <p:blipFill>
          <a:blip r:embed="rId2"/>
          <a:stretch/>
        </p:blipFill>
        <p:spPr>
          <a:xfrm>
            <a:off x="4876920" y="3962520"/>
            <a:ext cx="28191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686800" cy="6853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very Meadow, San Jose, 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2514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 km (6.2m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he Money Goes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IDS Emergency Fu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IDS Legal Servi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CSV Policy Proje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sian Americans for Community Invlov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ill Wilson Center HIV/AIDS Youth Projec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illy DeFrank LGBT Cen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ealth Connections, AIDS Servi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ealth Education &amp; Training Center - El Pueblo Against AI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Latino of San J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Paying Big $$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585440"/>
            <a:ext cx="5943600" cy="35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3300"/>
                </a:solidFill>
                <a:latin typeface="Arial"/>
              </a:rPr>
              <a:t>Red Ribbon Sponsor: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xilinx.com 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3300"/>
                </a:solidFill>
                <a:latin typeface="Arial"/>
              </a:rPr>
              <a:t>Media Spons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nb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Our Red Ribbon Sponsor Xilin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28960" y="1828800"/>
            <a:ext cx="257184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NBC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43440" y="3962520"/>
            <a:ext cx="23050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at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walkforaids.org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join the Xilinx t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up in Discovery Meadow, San Jose on October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Walk Web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78168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6:25:18Z</dcterms:created>
  <dc:creator>TITAFKAA</dc:creator>
  <dc:description/>
  <dc:language>en-US</dc:language>
  <cp:lastModifiedBy>TITAFKAA</cp:lastModifiedBy>
  <dcterms:modified xsi:type="dcterms:W3CDTF">2006-09-28T19:45:01Z</dcterms:modified>
  <cp:revision>26</cp:revision>
  <dc:subject/>
  <dc:title>AIDS Walk in San Jose 2006</dc:title>
</cp:coreProperties>
</file>